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77F-5CC2-4D21-8A11-62A234A7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96D9-F64F-4B81-9AA9-891413D9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9CC-8A2C-4CDD-A411-0F5506F6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C38-D684-4024-803C-11A372CF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1306-0012-4111-BF03-26CF58A4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7926-673B-4D86-8501-1C0A96DC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EBF8-E165-4A63-BAEA-2999FC67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DB7D-C7B0-43D4-ACDC-DC78483E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9C2B-E9DD-47AB-8117-FAAA963B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1C62-AA3D-48E2-8801-40FD26DB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96C5-A2B0-4530-AE7B-B76029FA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5B1-0A55-43C0-87A2-1B3427F6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C2A7-2D5C-466D-A011-E6217D42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FE2E-2C73-47E6-AE59-253F7E13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52FD-A39C-46D1-B021-7969FF3C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4D8E-DC95-4C57-B28C-E0EC3ACD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4430-4D7C-4647-864E-CB0168A9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561-4D2D-4D81-9264-B1683E21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E552-4FE7-4C74-BD5F-18EA40F6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DD5E-AF3C-4015-921B-A1AC18BA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8BD-69CD-4557-9F22-5237F320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49F1-69CC-4EFF-AA6C-6CC88191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A88-AFA9-4FA4-A41C-2581FB24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B4F7-CC47-4D87-AF06-02573D1A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AF94-79D7-4E98-A321-8C8FED2FBF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6EFA-99FC-4C13-9BDF-3FC7AE6E19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73120" y="208296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3399"/>
                </a:solidFill>
                <a:latin typeface="Tahoma"/>
              </a:rPr>
              <a:t>Karyotypes</a:t>
            </a:r>
            <a:endParaRPr b="0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wn Syndrome (Trisomy 2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52120" y="2499840"/>
            <a:ext cx="793764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The older the mother (over 35), the higher the risk for Down Syndr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Usually have physical and mental difficulties; very distinct physical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downs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72428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urnerKaryo" descr=""/>
          <p:cNvPicPr/>
          <p:nvPr/>
        </p:nvPicPr>
        <p:blipFill>
          <a:blip r:embed="rId1"/>
          <a:stretch/>
        </p:blipFill>
        <p:spPr>
          <a:xfrm>
            <a:off x="1828800" y="1866960"/>
            <a:ext cx="5638680" cy="4591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19320" y="825480"/>
            <a:ext cx="7924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Tahoma"/>
              </a:rPr>
              <a:t>What is Wrong With This Karyotype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229440" y="5307120"/>
            <a:ext cx="1377720" cy="763560"/>
            <a:chOff x="6229440" y="5307120"/>
            <a:chExt cx="1377720" cy="763560"/>
          </a:xfrm>
        </p:grpSpPr>
        <p:sp>
          <p:nvSpPr>
            <p:cNvPr id="138" name=""/>
            <p:cNvSpPr/>
            <p:nvPr/>
          </p:nvSpPr>
          <p:spPr>
            <a:xfrm>
              <a:off x="6229440" y="5307120"/>
              <a:ext cx="637920" cy="763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70600" y="5715000"/>
              <a:ext cx="73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7594560" y="5435640"/>
            <a:ext cx="1346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em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rner’s Syndro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06640" y="230940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Symptoms are usually isolated to the reproductive system (these women are usually steri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KlineKaryo" descr=""/>
          <p:cNvPicPr/>
          <p:nvPr/>
        </p:nvPicPr>
        <p:blipFill>
          <a:blip r:embed="rId1"/>
          <a:stretch/>
        </p:blipFill>
        <p:spPr>
          <a:xfrm>
            <a:off x="2095560" y="1828800"/>
            <a:ext cx="4870440" cy="4851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19320" y="825480"/>
            <a:ext cx="7924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Tahoma"/>
              </a:rPr>
              <a:t>What is Wrong With This Karyotype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772240" y="5365800"/>
            <a:ext cx="1365120" cy="979560"/>
            <a:chOff x="5772240" y="5365800"/>
            <a:chExt cx="1365120" cy="979560"/>
          </a:xfrm>
        </p:grpSpPr>
        <p:sp>
          <p:nvSpPr>
            <p:cNvPr id="146" name=""/>
            <p:cNvSpPr/>
            <p:nvPr/>
          </p:nvSpPr>
          <p:spPr>
            <a:xfrm>
              <a:off x="5772240" y="5365800"/>
              <a:ext cx="766800" cy="979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40480" y="5880240"/>
              <a:ext cx="59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188120" y="5587920"/>
            <a:ext cx="142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linefelter’s Syndro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55520" y="2449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Symptoms are usually isolated to the reproductive system (these men are usually steri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ground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35040" y="4292640"/>
            <a:ext cx="6883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ahoma"/>
              </a:rPr>
              <a:t>Homologous Chromosomes (Pairs):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matching chromosomes; you get one of each “number” from each par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3200" y="2387520"/>
            <a:ext cx="7188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hromosomes are photographed during metaphase, cut out, and arranged into homologous pai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ground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3520" y="2108160"/>
            <a:ext cx="6032520" cy="1766520"/>
            <a:chOff x="533520" y="2108160"/>
            <a:chExt cx="6032520" cy="1766520"/>
          </a:xfrm>
        </p:grpSpPr>
        <p:sp>
          <p:nvSpPr>
            <p:cNvPr id="105" name=""/>
            <p:cNvSpPr/>
            <p:nvPr/>
          </p:nvSpPr>
          <p:spPr>
            <a:xfrm>
              <a:off x="533520" y="2108160"/>
              <a:ext cx="3886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ahoma"/>
                </a:rPr>
                <a:t>Autoso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3520" y="2629080"/>
              <a:ext cx="6032520" cy="12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ahoma"/>
                </a:rPr>
                <a:t>Chromosome pairs #1 – 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ahoma"/>
                </a:rPr>
                <a:t>Contain most of your trait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58720" y="4152960"/>
            <a:ext cx="6489720" cy="2363040"/>
            <a:chOff x="558720" y="4152960"/>
            <a:chExt cx="6489720" cy="2363040"/>
          </a:xfrm>
        </p:grpSpPr>
        <p:sp>
          <p:nvSpPr>
            <p:cNvPr id="108" name=""/>
            <p:cNvSpPr/>
            <p:nvPr/>
          </p:nvSpPr>
          <p:spPr>
            <a:xfrm>
              <a:off x="571680" y="4152960"/>
              <a:ext cx="3733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ahoma"/>
                </a:rPr>
                <a:t>Sex Chromoso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640" y="5270400"/>
              <a:ext cx="6400800" cy="12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ahoma"/>
                </a:rPr>
                <a:t>X is the large chromosome on #23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ahoma"/>
                </a:rPr>
                <a:t>Y is the small chromosome on #23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8720" y="4686480"/>
              <a:ext cx="4584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ahoma"/>
                </a:rPr>
                <a:t>Chromosome pair #23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ground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2438280"/>
            <a:ext cx="7149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ahoma"/>
              </a:rPr>
              <a:t>Nondisjuction: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chromosomes do not separate properly during meio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54360" y="3898800"/>
            <a:ext cx="5473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 </a:t>
            </a:r>
            <a:r>
              <a:rPr b="0" lang="en-US" sz="3000" spc="-1" strike="noStrike">
                <a:solidFill>
                  <a:srgbClr val="ff0000"/>
                </a:solidFill>
                <a:latin typeface="Tahoma"/>
              </a:rPr>
              <a:t>Monosomy: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one homologous chromosome is pres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41400" y="5270400"/>
            <a:ext cx="5867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.  </a:t>
            </a:r>
            <a:r>
              <a:rPr b="0" lang="en-US" sz="3000" spc="-1" strike="noStrike">
                <a:solidFill>
                  <a:srgbClr val="ff0000"/>
                </a:solidFill>
                <a:latin typeface="Tahoma"/>
              </a:rPr>
              <a:t>Trisomy: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three homologous chromosomes are pres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rmal Karyo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NormalKaryo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715000" cy="457200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6137280" y="3833640"/>
            <a:ext cx="757080" cy="1785960"/>
            <a:chOff x="6137280" y="3833640"/>
            <a:chExt cx="757080" cy="1785960"/>
          </a:xfrm>
        </p:grpSpPr>
        <p:sp>
          <p:nvSpPr>
            <p:cNvPr id="119" name=""/>
            <p:cNvSpPr/>
            <p:nvPr/>
          </p:nvSpPr>
          <p:spPr>
            <a:xfrm>
              <a:off x="6137280" y="3833640"/>
              <a:ext cx="757080" cy="919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10240" y="47815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272280" y="5548320"/>
            <a:ext cx="1066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272280" y="5548320"/>
            <a:ext cx="145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em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rmalFemale" descr=""/>
          <p:cNvPicPr/>
          <p:nvPr/>
        </p:nvPicPr>
        <p:blipFill>
          <a:blip r:embed="rId1"/>
          <a:stretch/>
        </p:blipFill>
        <p:spPr>
          <a:xfrm>
            <a:off x="1908000" y="403200"/>
            <a:ext cx="5505480" cy="500868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6143760" y="3957480"/>
            <a:ext cx="799920" cy="1543320"/>
            <a:chOff x="6143760" y="3957480"/>
            <a:chExt cx="799920" cy="1543320"/>
          </a:xfrm>
        </p:grpSpPr>
        <p:sp>
          <p:nvSpPr>
            <p:cNvPr id="125" name=""/>
            <p:cNvSpPr/>
            <p:nvPr/>
          </p:nvSpPr>
          <p:spPr>
            <a:xfrm>
              <a:off x="6143760" y="3957480"/>
              <a:ext cx="799920" cy="102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43720" y="4971960"/>
              <a:ext cx="0" cy="5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normal Karyo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DownsKaryo" descr=""/>
          <p:cNvPicPr/>
          <p:nvPr/>
        </p:nvPicPr>
        <p:blipFill>
          <a:blip r:embed="rId1"/>
          <a:stretch/>
        </p:blipFill>
        <p:spPr>
          <a:xfrm>
            <a:off x="1739880" y="1905120"/>
            <a:ext cx="5207040" cy="4952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122720" y="5473800"/>
            <a:ext cx="760320" cy="947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825480"/>
            <a:ext cx="7924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Tahoma"/>
              </a:rPr>
              <a:t>What is Wrong With This Karyotype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6:59:22Z</dcterms:created>
  <dc:creator>Plano ISD</dc:creator>
  <dc:description/>
  <dc:language>en-US</dc:language>
  <cp:lastModifiedBy>Plano ISD</cp:lastModifiedBy>
  <dcterms:modified xsi:type="dcterms:W3CDTF">2004-11-29T22:41:02Z</dcterms:modified>
  <cp:revision>9</cp:revision>
  <dc:subject/>
  <dc:title>PowerPoint Presentation</dc:title>
</cp:coreProperties>
</file>